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620-F748-4251-A051-31755D72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118-6E45-40B1-B910-71768F09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0D7-E4B5-4CA6-8292-6590E69B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A0B-342F-46ED-84E4-D2292838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28D-FEEC-4488-AB41-D5AAF663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637-A28F-4353-9754-84BFC3E9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169-4757-4B8F-A8C2-6DCC75AB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F20-F331-4B2B-ABAB-8E40F98A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502-91FE-4326-B31E-B0ADC262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EBD-EB59-4348-A982-35496685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F7EB-82FC-4AEF-8A15-38BD1983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209-8F73-4D54-B263-92AF69A2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DD57-880E-44D2-BDC0-6AF265B54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Social Stud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ject You Will T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vist Teaching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 that is child-centered in approach and focuses on knowledge construction, not knowledge rep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s that students interpret new objects and events by trying to alter or modify existing mental structures that had formed as a result of their previous life experi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ernal impulse that provokes us to action or keeps us absorbed in certai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Pl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Self-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Curricular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ing ways to bring together the various subject areas and relating the content to a central th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obvious connections between the arts, humanities, and physical sci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ect for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ng instruction to meet the special needs, talents, and interests of all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n awareness and consideration of each youngster as a distinct individu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ocial Stud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ocial Sci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fers to several multifaceted disciplines that seek knowledge about societies and the relationships of individuals within socie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cial Stud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s the title for the school subject that provides for a systematic study of the social sciences in a coordinated, integrated fash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cial Sc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Geograp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study of people and places, the natural environment, and the capacity of the earth to support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Hi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systematic research, analysis, and interpretation of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ivics (Political Science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tudy of the origin, development, and operation of political systems and public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cial Sciences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nthropolog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udy of people to find out about their physical, social, and cultur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5. Sociolog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udy of society and social behavior by examining groups and social institutions such as the family, government, religion, business, or schoo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6. 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udy of the production, distribution and consumption of goods and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Social Studies Impor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’s 1916 initiative: helping prepare youth for constructive participation in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tion of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Goals of Elementary Social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alues and Beli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elp children understand the core civic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Knowledg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 children construct meaning by connecting new learning to previous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nking Ski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elp children acquire and process information to investigate problems and make informed deci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ocial Stud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ing children in a classroom environment that encourages them to rediscover the young social scientists 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vist teaching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insic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curricular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for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al Cont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iculum Scope and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Expanding Environment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Kindergarten: Myself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grade: School and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grade: Neighbor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66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grade: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grade: Region a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1" lang="en-US" sz="28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grade: United States and Close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6</a:t>
            </a:r>
            <a:r>
              <a:rPr b="1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grade: Eastern Hemi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7</a:t>
            </a:r>
            <a:r>
              <a:rPr b="1" lang="en-US" sz="2800" spc="-1" strike="noStrike" baseline="30000">
                <a:solidFill>
                  <a:srgbClr val="cc0099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grade: Western Hemi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8</a:t>
            </a:r>
            <a:r>
              <a:rPr b="1" lang="en-US" sz="2800" spc="-1" strike="noStrike" baseline="30000">
                <a:solidFill>
                  <a:srgbClr val="339933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grade: The United State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al Cont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CSS Curriculum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Time, Continuity,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eople, Places, an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dividu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ndividuals, Groups, and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ower, Authority, and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roduction, Distribution, and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cience, Technology, and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Globa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ivic Ideals an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23:05:56Z</dcterms:created>
  <dc:creator>scott1rm</dc:creator>
  <dc:description/>
  <dc:language>en-US</dc:language>
  <cp:lastModifiedBy>t60image</cp:lastModifiedBy>
  <dcterms:modified xsi:type="dcterms:W3CDTF">2009-01-07T00:07:48Z</dcterms:modified>
  <cp:revision>28</cp:revision>
  <dc:subject/>
  <dc:title>Dynamic Social Studies:</dc:title>
</cp:coreProperties>
</file>